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42228"/>
        <c:axId val="65072929"/>
      </c:barChart>
      <c:catAx>
        <c:axId val="63442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72929"/>
        <c:crosses val="autoZero"/>
        <c:auto val="1"/>
        <c:lblAlgn val="ctr"/>
        <c:lblOffset val="100"/>
        <c:noMultiLvlLbl val="0"/>
      </c:catAx>
      <c:valAx>
        <c:axId val="65072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42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5CE-B256-4A66-891F-B8436479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673-A25E-48B8-9E29-D7576F36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9A8-A94B-4C1E-946E-AC8A5F1F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98D-B07F-4F83-9173-3069B0BB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4C5-FDB5-41E8-B06B-D1829A61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58A-2C72-4B71-AC42-1B245C57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FBA-EE47-44E3-9FD2-B690478B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DB8-6E0B-4370-945A-14957B88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C71-6730-4014-B7A2-F3E4C2FC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B8B-C00F-466A-9FAF-50B09FBF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8A0-66A7-426A-B3B6-1B00F163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512-6BE6-46B2-9FEB-55B006C0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4F615-81F2-46D9-975F-C2FA62450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