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22735"/>
        <c:axId val="20834625"/>
      </c:barChart>
      <c:catAx>
        <c:axId val="69722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34625"/>
        <c:crosses val="autoZero"/>
        <c:auto val="1"/>
        <c:lblAlgn val="ctr"/>
        <c:lblOffset val="100"/>
        <c:noMultiLvlLbl val="0"/>
      </c:catAx>
      <c:valAx>
        <c:axId val="20834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22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682-A3DE-4974-8C18-B80AC36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2B9-7C86-4DE9-AB44-F5FD162D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DEA-0F7C-4301-A014-41F7B086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C98-26D0-4C1C-8BD2-E0C3036E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EDF-3705-4B96-9991-92583D2C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A6F-4ECD-421F-846E-D9FB9B73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ABB-30CB-4C4C-AF65-375E849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05A-24C8-4398-AA72-0EC2A113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5C8-8AC9-4698-89C0-6A13EFC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2A2-F0DC-4511-B071-02627E3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D50-BC1B-40F7-9808-C939C347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412-71A7-496D-8CFB-14B509E6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4AF6-C9D3-4486-8EF9-FC3B65908D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