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71343"/>
        <c:axId val="46243127"/>
      </c:barChart>
      <c:catAx>
        <c:axId val="86671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43127"/>
        <c:crosses val="autoZero"/>
        <c:auto val="1"/>
        <c:lblAlgn val="ctr"/>
        <c:lblOffset val="100"/>
        <c:noMultiLvlLbl val="0"/>
      </c:catAx>
      <c:valAx>
        <c:axId val="46243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71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F85-70D0-480C-94F0-46ACC591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080-E169-4257-8039-055242B2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0B8-77C8-4A23-8AC3-37E9FEF5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D17-25F3-475C-878B-DB103B85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165-0E90-4E00-A288-6207CB96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FF0-FE88-48A2-8B6E-B58700B0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05C-2BF8-4203-9A1D-14A9CC72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87C-AEA2-428B-AB5B-F58E13A7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7CA-B72F-4292-9090-0C85B808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612A-7089-4E2A-AFD9-8BE2792D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A56-076A-44B5-A3A5-FAA68D2D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7A0-EFE4-41A6-AC99-D2138F18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95080-E416-4A9D-93EE-FE2009517A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