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10175"/>
        <c:axId val="66480899"/>
      </c:barChart>
      <c:catAx>
        <c:axId val="88610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80899"/>
        <c:crosses val="autoZero"/>
        <c:auto val="1"/>
        <c:lblAlgn val="ctr"/>
        <c:lblOffset val="100"/>
        <c:noMultiLvlLbl val="0"/>
      </c:catAx>
      <c:valAx>
        <c:axId val="66480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10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EFE-DC2C-4707-B6B6-647EFE39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D3D-4C0A-4BC7-8657-8E353313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DF8-03E6-4126-AEFE-20F78A36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D44-6283-448B-B25D-C25BE56B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E5A-4C99-4A40-BC03-63C4BF4E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F69-E86E-448E-BBB1-0A0D9B25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C0F-DFF0-4595-8B76-81D2EF46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7F8-1342-463C-A857-33C25535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E88-3ACF-4225-A2F5-8724ABE6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BD6-B3B7-405B-A65D-6CD0E88B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B98-63CE-4E7B-8C46-F453413C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D91-04FE-448F-A56D-449DEC34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9F804-680C-44C0-85D8-6F1BBFC7AE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