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36697"/>
        <c:axId val="60352767"/>
      </c:barChart>
      <c:catAx>
        <c:axId val="92536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52767"/>
        <c:crosses val="autoZero"/>
        <c:auto val="1"/>
        <c:lblAlgn val="ctr"/>
        <c:lblOffset val="100"/>
        <c:noMultiLvlLbl val="0"/>
      </c:catAx>
      <c:valAx>
        <c:axId val="60352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6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591-A2FF-4351-ABC2-71184E7C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28C-2793-472A-B3EB-2480FAA6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C46-304B-427F-A888-10A1C751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81C-A225-4BE7-BF99-163C7877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143-F219-41A0-9C9C-DADF32A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927-0360-4233-B122-1BC31BF0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C1A-0AC4-4FB8-B618-960EACA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51C-AAFD-4885-A808-8B4723E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601-2529-4BBE-ABF5-BEB45CEB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1A0-ED61-4C5B-8502-9B0A966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349-55A3-4E1C-AAE0-94E5CB1D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3A8-FD39-4755-96E2-E988672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0EAAB-A5FE-45AF-8909-8E7331DD43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