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750363"/>
        <c:axId val="29281601"/>
      </c:barChart>
      <c:catAx>
        <c:axId val="597503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81601"/>
        <c:crosses val="autoZero"/>
        <c:auto val="1"/>
        <c:lblAlgn val="ctr"/>
        <c:lblOffset val="100"/>
        <c:noMultiLvlLbl val="0"/>
      </c:catAx>
      <c:valAx>
        <c:axId val="292816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7503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D761-2B24-44C1-958A-A2C64B60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317B-C3F7-4C6D-B0C2-4AED560D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C2B6-38D8-45BC-A882-D48CD2D7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6F2C-BB8C-485C-AC01-432E36DA9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818E-3AFC-4F6E-B369-7827726F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52A4-6108-43EC-B16D-B03B924A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A6CD-BF78-4313-82DF-2D669E07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70DE-EE74-4708-80F1-E3835196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563D-47AA-46F2-B304-81FAB502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1DDF-FE58-44B3-A987-D09454C5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CFFD-96D0-4450-BDF1-15AA5443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9608-FE09-4F81-9CC8-773E15E9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0281C-63CC-436E-B8C1-D959D959F3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