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26536"/>
        <c:axId val="55924265"/>
      </c:barChart>
      <c:catAx>
        <c:axId val="67826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24265"/>
        <c:crosses val="autoZero"/>
        <c:auto val="1"/>
        <c:lblAlgn val="ctr"/>
        <c:lblOffset val="100"/>
        <c:noMultiLvlLbl val="0"/>
      </c:catAx>
      <c:valAx>
        <c:axId val="55924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26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9F0-BEF5-4AD6-B03A-0CCAE55A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D46-BD93-43BC-ACEB-85B74221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9DE-E4A9-4044-AA33-4BC440C7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35D-A470-49B8-A83D-2D9F9C82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059-0077-4630-B24C-8B36A6C9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0C4-57E3-4B8F-BD2F-8978E6F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B5C-F363-4CEA-A217-DFF9A7D1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748-E902-4DE8-8D50-7B724827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56E-0CF6-45D2-B320-F7B4811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FF3-8D14-481F-8E6B-0505826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08B-C6ED-492C-B50C-ED4324F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943-F5A4-46F0-9642-6C93BCC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D7B96-100C-4B47-9058-27AE4DBF93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