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79453"/>
        <c:axId val="64165569"/>
      </c:barChart>
      <c:catAx>
        <c:axId val="34079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65569"/>
        <c:crosses val="autoZero"/>
        <c:auto val="1"/>
        <c:lblAlgn val="ctr"/>
        <c:lblOffset val="100"/>
        <c:noMultiLvlLbl val="0"/>
      </c:catAx>
      <c:valAx>
        <c:axId val="64165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9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102-CB5D-4034-84F5-B7BF19B9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920-AC0C-4868-A0E9-5DE0506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E5D-CC62-43B5-9E07-37F87311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F03-568A-47CB-9AAC-1B5CED89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707-BEC7-45B3-8FFC-AD17779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35E-32E1-466E-9082-5EADE9B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E17-FED7-4C33-AD1B-84D27A7D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929-432F-44F9-AE72-C2C9871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4D0-81DD-48A7-9C6D-E685C01C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18C-4FB1-4EAC-B824-F4A1F4C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49B-25B5-49B1-B264-59FA07E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DF4-BABB-44F5-8710-0503190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55B1E-3CB5-4A91-928D-173B9DDBA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