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504154"/>
        <c:axId val="14190513"/>
      </c:barChart>
      <c:catAx>
        <c:axId val="73504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190513"/>
        <c:crosses val="autoZero"/>
        <c:auto val="1"/>
        <c:lblAlgn val="ctr"/>
        <c:lblOffset val="100"/>
        <c:noMultiLvlLbl val="0"/>
      </c:catAx>
      <c:valAx>
        <c:axId val="14190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504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1492-6A9C-4103-9383-03D4AD8B2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E233-D283-49A9-B7DF-C5B7327C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82EB-D41C-4ACE-B848-0F7EDC8D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0FD7-4595-4A68-8923-EF285CE8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C5EE-2179-4CA2-BD4F-A0D277CA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B17D-9103-4AC1-B9AD-0537BE56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3528-092D-4411-A6F4-AAD4687B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F34-80B6-44FD-B3B3-CD314041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2466-835A-4358-A5C8-F4B16F1A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FD49-9B91-4721-96B7-C6ED45BE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6ABB-7CEA-497B-B5E3-1E29E77DB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1E24-9699-4261-A785-2ABF09BAB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BA3F97-EF1E-4052-9BDC-352BCCEA56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