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40130"/>
        <c:axId val="4937659"/>
      </c:barChart>
      <c:catAx>
        <c:axId val="61640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659"/>
        <c:crosses val="autoZero"/>
        <c:auto val="1"/>
        <c:lblAlgn val="ctr"/>
        <c:lblOffset val="100"/>
        <c:noMultiLvlLbl val="0"/>
      </c:catAx>
      <c:valAx>
        <c:axId val="4937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40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CFD-618E-4D51-B4C6-905158AA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53A-3509-4E17-B197-F5A6FB68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611-F60B-4F2E-B6B4-AE7A3B01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7FC-D1F4-49CF-9C84-E37F429E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C68-439F-4148-8F0C-270C73D6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23D-2A89-4D5F-A201-93A65481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1D0-63A5-4EC6-8362-74A701BB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348-6CE3-4006-8435-70B2DB99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FCA-8B17-4BF7-91D4-006E4B72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131-62F2-4B9C-AB25-0B57B1A6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906-763A-47CF-97BB-A229E23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D18-1319-43A9-8B02-5D19C391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7FBB0-F357-4263-AFD4-1134BE0FC1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