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54401"/>
        <c:axId val="60413339"/>
      </c:barChart>
      <c:catAx>
        <c:axId val="25054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13339"/>
        <c:crosses val="autoZero"/>
        <c:auto val="1"/>
        <c:lblAlgn val="ctr"/>
        <c:lblOffset val="100"/>
        <c:noMultiLvlLbl val="0"/>
      </c:catAx>
      <c:valAx>
        <c:axId val="60413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54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660-AB78-4CE4-BDA6-C1BC0F1D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CB4-B31C-4F9A-AE94-CE1906A0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35E-4469-4C4B-8BB2-73E104A2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B7B-4042-47E2-A362-81896E14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B47-D50B-41FC-89F2-7C5846D0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E5C-6611-4418-94C6-28B5FB4B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931-BF6D-4487-A965-12A812E9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7F6-0552-4922-8705-E120AD25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93C-801A-43D1-8216-80D2A048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8FC-0BA8-4BE5-829E-7660B942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435-B14B-4220-9253-1D550ADA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C5C-67C4-4958-B5AB-7216089B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16425-4A58-4723-AC51-8D88F57B84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