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52492"/>
        <c:axId val="11832063"/>
      </c:barChart>
      <c:catAx>
        <c:axId val="38152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32063"/>
        <c:crosses val="autoZero"/>
        <c:auto val="1"/>
        <c:lblAlgn val="ctr"/>
        <c:lblOffset val="100"/>
        <c:noMultiLvlLbl val="0"/>
      </c:catAx>
      <c:valAx>
        <c:axId val="11832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52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F47-D7E4-4F20-80EB-F3F8384F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DB8-3068-46C3-A490-DDC5C027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2B5-DF4D-4CE1-9390-0B48AAC1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A9D-D157-4D7C-952D-FC9CF6EB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FB1-FE6E-41AF-8CBA-34112E23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0F0-92D0-4039-972B-BFAB9E4D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1B7-F6B7-4A5E-8B9C-4AE05976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4F9-2E80-4A3C-A050-E5E64425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DC7-F482-4177-88C3-391CC62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1FF-D074-4955-A50C-D5E5D8A9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F72-1972-44CB-8E47-93EAE5C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B5E-36A1-4A69-9D11-C3D5C32D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9A763-1EFA-4BD5-9B41-65161794BA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