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24752"/>
        <c:axId val="19031680"/>
      </c:barChart>
      <c:catAx>
        <c:axId val="33524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31680"/>
        <c:crosses val="autoZero"/>
        <c:auto val="1"/>
        <c:lblAlgn val="ctr"/>
        <c:lblOffset val="100"/>
        <c:noMultiLvlLbl val="0"/>
      </c:catAx>
      <c:valAx>
        <c:axId val="19031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24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7671-2355-4020-BEEA-BE4C4473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9AC-B929-453D-83F9-E6BB2F93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E90-C8D0-47CF-A383-736CD8B8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FF1-E71E-470F-AE0A-A0B848F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D6E-6284-4652-A93D-62D643A6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6E4-79C2-4233-A75E-3423718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A0A8-0061-4DF7-B3FD-E5CAC90B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E96B-81D9-4B3C-8DDE-9337BF3F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6DF-C937-4A39-AB32-FC868EA0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85C3-671E-476E-93A9-9694E83D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B3C9-FCF2-46C0-A1F2-EDA3158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D11-C528-4433-A2B2-3C6D3866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91C0A-8985-482C-869A-7E92F3758D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