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73961"/>
        <c:axId val="66200708"/>
      </c:barChart>
      <c:catAx>
        <c:axId val="90973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0708"/>
        <c:crosses val="autoZero"/>
        <c:auto val="1"/>
        <c:lblAlgn val="ctr"/>
        <c:lblOffset val="100"/>
        <c:noMultiLvlLbl val="0"/>
      </c:catAx>
      <c:valAx>
        <c:axId val="66200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73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A39-148E-4EFF-AABF-6D34AA52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B10-ECF0-4F62-990B-45E0DFF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EA4-B417-4779-87BF-9F955040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53B-BB00-402B-B4E8-A2CEEBD3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6E4-2A82-44B5-8A1D-D9AAB5A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8AB-E722-4B60-975D-DD47654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884-9787-4F65-AE39-C49BA1C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3EE-142D-40C7-A718-5B14997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2AF-14FD-4FDC-9C82-14BD547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558-1A5D-4EA4-950B-A3923D4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7D0-D37B-4C37-8593-DD7161D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A48-F3BD-4BFE-9D36-4314B880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9E0A9-5FCF-4CC5-8400-7C6C0C7C7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