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74255"/>
        <c:axId val="44162551"/>
      </c:barChart>
      <c:catAx>
        <c:axId val="41674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62551"/>
        <c:crosses val="autoZero"/>
        <c:auto val="1"/>
        <c:lblAlgn val="ctr"/>
        <c:lblOffset val="100"/>
        <c:noMultiLvlLbl val="0"/>
      </c:catAx>
      <c:valAx>
        <c:axId val="44162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74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522-4A47-4D6D-BDB2-0A7F856D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673-7AA2-4E4C-AC13-8D90B8D3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402-94D2-4619-9B6E-9530B4BD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396-04F2-4893-8BFA-FCEA12F1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1D9-564A-4987-85ED-DD5B6656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D30-40F2-4C1F-845D-C723C170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1BB-6C63-4BF1-BB43-8E29C8C8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F57-A517-4CAA-B396-95100291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974-51A8-4567-A2E7-91000039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390-19ED-4BFB-9DFC-7BC1360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477-D71F-467F-87E0-6DFBE65F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132-9B45-4AEA-9D14-B3AF490B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5783-A2A2-4EAC-A02B-8A3712503C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