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80640"/>
        <c:axId val="13188633"/>
      </c:barChart>
      <c:catAx>
        <c:axId val="80980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88633"/>
        <c:crosses val="autoZero"/>
        <c:auto val="1"/>
        <c:lblAlgn val="ctr"/>
        <c:lblOffset val="100"/>
        <c:noMultiLvlLbl val="0"/>
      </c:catAx>
      <c:valAx>
        <c:axId val="13188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80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7BF-7553-4AEE-9A09-C75E4E56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2C4-8BB5-4FBD-B472-CC4DC04F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883-76A0-4695-9947-86EF9401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920-FAE3-4476-A5DD-31466393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F39-E062-4720-BE17-71BAC4BE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C18-754D-49C5-A5F6-E7484424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EC9-3AE3-4B28-AF89-57F0DBF6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175-DAC8-4A7C-A287-9E0CFE17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FA7-70AD-48B6-9C8B-FAE17286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703-302C-4698-AD0B-C54459A3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B0B-C383-4E61-BBAE-65BBBEF9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9F3-5CFF-4329-8ADF-2B74FA1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F6AE0-25F8-4A64-B909-83962A71D3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