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8879068"/>
        <c:axId val="72967425"/>
      </c:barChart>
      <c:catAx>
        <c:axId val="4887906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967425"/>
        <c:crosses val="autoZero"/>
        <c:auto val="1"/>
        <c:lblAlgn val="ctr"/>
        <c:lblOffset val="100"/>
        <c:noMultiLvlLbl val="0"/>
      </c:catAx>
      <c:valAx>
        <c:axId val="7296742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87906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5E971-BE8B-4C75-9EC0-033EF60C8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44879-D9FB-4E9A-99A0-48109206F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389DD-E86F-468C-82DB-EFB1DD693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AED56-DA04-46D6-9D10-29E84F9F7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F63A6-F0A7-4F1E-9BFC-EFDCFBC77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C1766-1132-4375-BFC0-73702F4A9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8E6BB-AEB7-4CD8-96D4-13BD614AD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5DC9D-B893-4652-8BB8-4E31A0259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DEE6C-3781-43EA-B868-5BC017621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AC460-8E2C-428F-B9BE-AC3C02772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D061A-D7C0-40F0-96E3-7655E1294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6F94C-9ED6-468B-BE88-EBE23B28C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AA40E6-459A-4E97-A10A-CD52D468865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